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F48E-B6CA-4380-82E5-131CBB2D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38A9-0F69-43AA-B9A6-F5502C56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339A-4E72-4B97-82FA-1E5765255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8D45-8640-4ED1-9566-C29BB06D4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43FD-5B62-4827-AA3C-60A50B64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0363-D36D-4072-957E-9BC57016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C93C-DA6A-4A0B-BBBC-B2A2E547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1E7E-0D0F-4CB8-A987-BB3E867A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0E7F-A353-41A2-B8BD-AD9188BA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D1E1-3307-47CA-8013-AC503953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E29B-D417-4C09-ACCA-DA5F1595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0D04-2ECF-44B0-AEED-0F0B8CBB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19BB-18AA-40F2-9A18-ADAA89557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762120" y="152280"/>
            <a:ext cx="7543800" cy="215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haracters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38080" y="23623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s ar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 story's 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09480" y="2819520"/>
            <a:ext cx="8153640" cy="3416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ai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special qu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rect characteriz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the author tells us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direct characteriz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reveal in the story throug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earance, dialogue, private thoughts, their actions, and effects the character has on others in the 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609480" y="533520"/>
            <a:ext cx="8153640" cy="581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peara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an Carlos stood tall and straight, his long hair blowing in the wind past his hard chin and cheekbones, and his deep, piercing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What can you conclude about Juan Carl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alogu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lutely not, Maria, you can’t go.” scolded her mo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don’t care what you say!” shouted Maria, “I’m going to the movies with Juan Carlos tonight and there isn’t anything you can do about it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What can you conclude about Mar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685800" y="152280"/>
            <a:ext cx="8153280" cy="637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ivate Though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waited by the theatre entrance. “What if Juan Carlos doesn’t come? Maybe he doesn’t love me after all.” she thought to her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What can you conclude about Mar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an Carlos lifted her off her feet and kissed her passionately for a long, long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What can you conclude about Juan Carlos</a:t>
            </a:r>
            <a:r>
              <a:rPr b="1" i="1" lang="en-CA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Effects on Ot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ventually all the other people in front of the movie theatre started to get uncomfor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What can you conclude about Juan Carlos and Maria</a:t>
            </a:r>
            <a:r>
              <a:rPr b="1" i="1" lang="en-CA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762120" y="152280"/>
            <a:ext cx="7543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haracters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838080" y="1828800"/>
            <a:ext cx="74678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s can 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2D - like a paper d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ou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3D like re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oc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fits our idea of a "type" (mad scientist, pirate, worrying mother, uptight businessm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1"/>
          <a:stretch/>
        </p:blipFill>
        <p:spPr>
          <a:xfrm>
            <a:off x="838080" y="4419720"/>
            <a:ext cx="1876680" cy="2438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2"/>
          <a:stretch/>
        </p:blipFill>
        <p:spPr>
          <a:xfrm>
            <a:off x="2895480" y="4572000"/>
            <a:ext cx="142884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"/>
          <p:cNvPicPr/>
          <p:nvPr/>
        </p:nvPicPr>
        <p:blipFill>
          <a:blip r:embed="rId3"/>
          <a:stretch/>
        </p:blipFill>
        <p:spPr>
          <a:xfrm>
            <a:off x="4495680" y="4648320"/>
            <a:ext cx="2000520" cy="18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4"/>
          <a:stretch/>
        </p:blipFill>
        <p:spPr>
          <a:xfrm>
            <a:off x="7010280" y="4648320"/>
            <a:ext cx="13525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228600" y="304920"/>
            <a:ext cx="8505720" cy="12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racter Interactions</a:t>
            </a:r>
            <a:endParaRPr b="0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80880" y="1600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The Protagonist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center of focus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28600" y="19810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The Antagonist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 character usually against the protagonist or trying to keep them from being success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533520" y="2819520"/>
            <a:ext cx="807696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ubordinate characte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minor/lesser characters that add to the story but not the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28600" y="4191120"/>
            <a:ext cx="8458200" cy="157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s can 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change in an important way in the story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a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exactly the same at the end as at the begi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5:27:33Z</dcterms:created>
  <dc:creator>Cathy Carpenter</dc:creator>
  <dc:description/>
  <dc:language>en-US</dc:language>
  <cp:lastModifiedBy>Dan Olsen</cp:lastModifiedBy>
  <dcterms:modified xsi:type="dcterms:W3CDTF">2011-09-17T16:37:23Z</dcterms:modified>
  <cp:revision>11</cp:revision>
  <dc:subject/>
  <dc:title>Slide 1</dc:title>
</cp:coreProperties>
</file>